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14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38498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178F-8687-482E-ABD1-FBB37C807F16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4D9B-3D46-476A-A27B-048E14B7D1ED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3727-731E-4193-B9F4-74F07CE51F79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9CBC-22D9-4A20-AF50-182EC3F53DD7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14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3D518-A977-4938-BCBF-8E88198F5900}" type="slidenum"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3641-BAF6-4B04-8B3C-8A5A3301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B41-E21D-449A-8F5D-AE15EA2A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33D69-5911-4280-A970-8627FE88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076D15-869A-458D-9696-A76D73F4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3425D-C934-465A-A1E4-E1F71430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0B516-52BA-4063-923E-010F84CA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65FA2-9C06-49E8-9D80-15DCEBE3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C3909-30B9-4998-96CD-39FCA623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B80D0-F890-4AAA-8773-146D96E1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BA5FED-CD70-4276-A51D-DF447E4F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C8A23-1521-428C-A72E-EF133CF0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24FEE-025D-4D25-A4E5-E7A0403C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2868-2706-4DC5-B8B0-821BF395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5502AE-73CD-4FC0-844B-04692700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7EA784-79D6-4147-BD3E-E7363FEA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23DC7-2055-4D2E-97F8-CB6294B2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F8951-6C08-4B70-9A0E-B94322BE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28BF0-0077-4BEC-87AC-9BC5F3E6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10A2F-231E-4932-9F11-39BF8F5D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1C2833-9045-4925-8C0B-45612141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53DAC-CF6B-4AA4-9899-1C81F49A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956AB-1666-4B4F-903A-9C59C1A1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44404-9457-4C14-806B-3108A361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111-D535-4AB6-83DA-346D5340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CC460A-2DD6-4F58-A5DB-629453E1D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C03C9-F5EA-4483-A2B1-9CB140C7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01FC3-2F71-4529-94CD-6D7146BA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C0BFF-5AB2-46C0-B213-406EE4C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98174-E25B-46E9-9B9B-1DF484D0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2EDAB-205A-47F8-8FEA-D0F9AAEA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04B24-F67C-4348-8B02-1C313BD1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19C12-3442-4FC5-9196-7671B68A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EE66F-3DAE-418A-A58D-A5487E93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5BC227-FAF4-473E-83B1-C95A7AB7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508E-7ABF-426E-85C4-1094B716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00DC2-1B93-40FC-AA14-FB6E0A2A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A2E5A-B123-4BC2-80FB-F3B127D9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23AFAA-2A8C-4024-A221-276A59DA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B57F8-D66B-42F8-8F75-06B65D11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96855-868B-452C-9ABA-8725F634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B56A26-68B3-406E-B59D-AE5571ED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DE6DE-4AC3-48B8-A334-45887085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21D63-2984-41F0-BDCF-71C8952C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B09B5-2AE4-4158-AFA6-5C79B012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FA198-8941-4A4E-BAD2-458FCE3F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DD6F-B342-4216-BF36-19B923EBC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FF281-7D5C-45A7-8136-799876D7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902D4-88CA-4995-8973-0820766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92912-A076-4CE4-B206-3D98317A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351E9-8FD0-4270-ABE5-DC754A5F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D8BB4-66C9-4757-8723-739ED287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D035-C66C-4ED8-B387-9F12F35E0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74BE-F08E-490D-BC2A-F610005C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7747-E48A-4B6D-9D72-5018A735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E90D-E19A-4220-AE1D-E450A6E9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E4C8-3040-4239-A9B0-9EBAE267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33E-6CB5-42B5-9534-F6C2BF86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2CF2-027A-4D36-838E-644C9AAD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655C-9FA7-4804-BC9A-55C1E9BB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7CE9-8BE2-4B36-8D42-99CBCA686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373C-A6A1-4B84-B5C4-F10CD2088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0717-A0D2-4DED-89C5-AC2B7D7C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9A4B5-44CB-4500-B3B5-BF66E1DF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D193-40FC-47F6-9AA6-B0E77BFB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4606-BA7B-464C-A5AB-B0B6AED5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B4D9A-728A-438D-9DD0-B9B8F04F7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6AD5C-3B2F-4C17-A85D-955B1DE4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955-AD89-4413-A43F-68A2C145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E0C2E-6298-4321-980B-39829589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35C5C-9780-4783-BA73-D28846B4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0B07F-47AE-469B-92D6-B27733DD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561BA-116D-4185-820E-E0775DDC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BF286-AA53-4C99-9735-73D79D54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CEF83-CA68-4931-B240-963C93DB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103BC-99D8-4A6E-8F0B-826A402D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D7CFD-5CEF-4D3A-B463-296F3E990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4601-D6F8-4200-A871-057B91A5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3455D-69B2-44E1-B47F-6ABA9F11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07B9-3817-4593-84CA-DD9520AC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73BDC-4201-424A-8F44-072748D9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6F543-8D70-498A-AAE1-A767BB88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C966C-E080-4AF6-A9A1-D36323AD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CF345-1A23-40A2-A60E-BFF00314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CC9EB-5782-4E6B-B8F6-DD955015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26DF4-2985-4DCC-A145-7AFA5C1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A7385-AB81-49BC-9A92-A7F72E97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2EB0-BEA9-45C7-B7B1-034FECBC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7251D-606B-40F7-88FD-42BC230A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06A20-EC5C-41B1-AF2A-8FB064CB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1F1-174E-4900-A911-E4644357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5CF6C-04FF-447E-BDC1-CAE27025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A94C6C-9D2D-4518-A399-35B57077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51A5D-D2F3-48D6-89A6-0B990153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342B1-529B-4B43-9AB6-113222DC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125F1-D212-48C5-A151-8BD81A3D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D0EC2-83D5-432A-B0AE-AABB2F3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14F48-16BB-427A-B7A5-3C2AD54C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A8BEC-C906-4257-B0BA-99545CC9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189AB-85FF-44A0-82DC-7EF639A8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90515-0CB9-49F5-9873-CE55C695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FBE-DDFB-4200-841B-04289FF4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934EB-551B-4E38-8F4B-3CDAC56E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0C41-6573-481B-BB6C-D4774850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5A12E-E31D-4A54-8135-54D63151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82A51-B860-4737-9392-52C092EB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77DA5-AC71-4CAF-BFCB-CC732A79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0D186-A77E-4051-A148-AEF87337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A1191-EEB1-4D0F-8A77-3FCB0B34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76929-9584-488D-A15A-9DA489B2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435BB-D2D4-42F3-BBA0-326B778E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DDE13-F7CF-4CF8-A26B-637FCD3E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609-4F55-4063-8BFE-D1AB81B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38F44-9704-4D97-80B6-9502DEF1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70E2E-DB7C-41E5-B7B4-A5BF3F09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8061F-98AC-4034-A89D-757CC338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C156D-8B99-4630-8B7C-371104AB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2362A-1B92-4FE6-A757-633EB21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AA99B-3675-4A98-8293-9F97C152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FDECA-155A-42B4-B632-12F5CEDF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FB017-C7E8-4415-B0CA-E027D0DC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C5FEA-3E02-4865-A932-021EA9BF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ECD6B-96ED-4DB2-B208-A2DE691C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681B-C2FC-439D-9BCF-343FEDB3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6A0DE-AAFA-4F02-A88E-02487C57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C39AB-E509-433A-AC1D-8E54F584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FDC9E-4B00-402E-AC71-073BA932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C562-9A5D-4619-815C-1913FC9F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320AF-1B66-40A3-A8B4-DA42E3BD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40596-E7C9-4AA4-AD2D-522900A5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3E983-C098-4F55-A33E-135EBFD3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5C018-5B7A-43D5-A1C0-FC3DE493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993BC-1416-4BAA-AC0A-67339497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315E7-7385-4859-A540-60EBD702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FA1E-DA9B-4A52-AD90-CF2C5A9E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39D8B-8117-466C-9BEC-C8DEC646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45A0E-CC2B-47FE-A512-DD71A9A7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F8A0C6-C310-4656-BAA4-5F68255F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54636-D394-40E4-80CB-96E157F7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1DAEE-8EB5-48B1-80A1-9A94AA74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3EC07-E0FE-47CE-B87E-7D51E7A5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AF3C-8FA0-4CD2-8741-A490FFBE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C7BE7-32EB-474E-9655-1C52E30E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61DE4-65DF-48DB-9191-81C8BCEB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320C9-8CA9-489D-90F2-05748773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FC30-5D3C-4A9F-B32C-4DCFD05C6E8B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D048-FD19-4B26-AC45-4A627EBADD6C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0633-CA00-4359-95F7-2E29ED37464B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68BF-5282-4E52-9712-016ED502ADB5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CF94-F4F1-4DD0-AB86-211D25A3C475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86B5-02CD-4D11-B1BF-230BD084A7D9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C458-2C34-4A67-A4E6-C27EB2C156A1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7331-702A-4734-B971-A53E0668E9B3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4DF9-F413-4C52-B91B-3B529394D6E1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DA54-D0BB-4D5F-90FD-70EBA80F3D67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C661-2CDF-4520-950C-19C660936697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B422-91C9-40C0-A219-233AE0411664}" type="slidenum">
              <a:rPr b="0" lang="he-I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533520" y="1066680"/>
            <a:ext cx="81532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gration,  Conges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d Grow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1905120" y="38098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onid  V.  Azarne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1222560" y="22860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asic Structure of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304920" y="762120"/>
            <a:ext cx="85500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An OLG economy that produces a single homogenous good in a CRS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Human capital is the onl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ndividuals live for two periods – childhood and adult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Individuals derive utility from their own consumption and from the future income of their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Parents spend resources on rearing their children and pay for their offspring’s edu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World consist of: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economy and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econom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In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wages, average human capital        and congestion cost         are highe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- Migration: from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M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1"/>
              <p:cNvSpPr txBox="1"/>
              <p:nvPr/>
            </p:nvSpPr>
            <p:spPr>
              <a:xfrm>
                <a:off x="1835280" y="5445000"/>
                <a:ext cx="1871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p>
                    <m:r>
                      <m:t xml:space="preserve">&gt;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5" name="Object 2"/>
              <p:cNvSpPr txBox="1"/>
              <p:nvPr/>
            </p:nvSpPr>
            <p:spPr>
              <a:xfrm>
                <a:off x="3833640" y="5445000"/>
                <a:ext cx="17193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6" name="Object 3"/>
              <p:cNvSpPr txBox="1"/>
              <p:nvPr/>
            </p:nvSpPr>
            <p:spPr>
              <a:xfrm>
                <a:off x="5651640" y="5445000"/>
                <a:ext cx="334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&gt;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533520" y="476280"/>
            <a:ext cx="2835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Utility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515880" y="2565360"/>
            <a:ext cx="3444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Budget Constrai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"/>
              <p:cNvSpPr txBox="1"/>
              <p:nvPr/>
            </p:nvSpPr>
            <p:spPr>
              <a:xfrm>
                <a:off x="325440" y="1268280"/>
                <a:ext cx="741528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Object 2"/>
              <p:cNvSpPr txBox="1"/>
              <p:nvPr/>
            </p:nvSpPr>
            <p:spPr>
              <a:xfrm>
                <a:off x="250920" y="3213000"/>
                <a:ext cx="58546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≤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1" name="Object 3"/>
              <p:cNvSpPr txBox="1"/>
              <p:nvPr/>
            </p:nvSpPr>
            <p:spPr>
              <a:xfrm>
                <a:off x="6372360" y="3357720"/>
                <a:ext cx="25207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2" name="Object 4"/>
              <p:cNvSpPr txBox="1"/>
              <p:nvPr/>
            </p:nvSpPr>
            <p:spPr>
              <a:xfrm>
                <a:off x="287280" y="4076640"/>
                <a:ext cx="616284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)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≤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3" name="Object 5"/>
              <p:cNvSpPr txBox="1"/>
              <p:nvPr/>
            </p:nvSpPr>
            <p:spPr>
              <a:xfrm>
                <a:off x="6516720" y="4221000"/>
                <a:ext cx="1150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4" name="Object 6"/>
              <p:cNvSpPr txBox="1"/>
              <p:nvPr/>
            </p:nvSpPr>
            <p:spPr>
              <a:xfrm>
                <a:off x="7667640" y="4221000"/>
                <a:ext cx="12254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5" name="Object 7"/>
              <p:cNvSpPr txBox="1"/>
              <p:nvPr/>
            </p:nvSpPr>
            <p:spPr>
              <a:xfrm>
                <a:off x="250920" y="5229360"/>
                <a:ext cx="4752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6" name="Object 8"/>
              <p:cNvSpPr txBox="1"/>
              <p:nvPr/>
            </p:nvSpPr>
            <p:spPr>
              <a:xfrm>
                <a:off x="5867280" y="5373720"/>
                <a:ext cx="2808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3120" y="3490920"/>
            <a:ext cx="7773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Non-Corner Solution for Investment in H.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Object 3"/>
              <p:cNvSpPr txBox="1"/>
              <p:nvPr/>
            </p:nvSpPr>
            <p:spPr>
              <a:xfrm>
                <a:off x="376200" y="4365720"/>
                <a:ext cx="66960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9" name="TextBox 1"/>
          <p:cNvSpPr/>
          <p:nvPr/>
        </p:nvSpPr>
        <p:spPr>
          <a:xfrm>
            <a:off x="539640" y="527040"/>
            <a:ext cx="3848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dult’s Consum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Object 2"/>
              <p:cNvSpPr txBox="1"/>
              <p:nvPr/>
            </p:nvSpPr>
            <p:spPr>
              <a:xfrm>
                <a:off x="395280" y="1557360"/>
                <a:ext cx="8353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i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if  </m:t>
                              </m:r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D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D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i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m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</m:t>
                              </m:r>
                              <m:r>
                                <m:t xml:space="preserve">j</m:t>
                              </m:r>
                              <m:r>
                                <m:t xml:space="preserve">=</m:t>
                              </m:r>
                              <m:r>
                                <m:t xml:space="preserve">M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and  </m:t>
                              </m:r>
                              <m:r>
                                <m:t xml:space="preserve">i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D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443160" y="500040"/>
            <a:ext cx="618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Human Capital Production Func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441360" y="4030560"/>
            <a:ext cx="66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Investment in Children’s Edu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1"/>
              <p:cNvSpPr txBox="1"/>
              <p:nvPr/>
            </p:nvSpPr>
            <p:spPr>
              <a:xfrm>
                <a:off x="441360" y="1341360"/>
                <a:ext cx="5354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Object 2"/>
              <p:cNvSpPr txBox="1"/>
              <p:nvPr/>
            </p:nvSpPr>
            <p:spPr>
              <a:xfrm>
                <a:off x="441360" y="2997360"/>
                <a:ext cx="4130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γ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Object 3"/>
              <p:cNvSpPr txBox="1"/>
              <p:nvPr/>
            </p:nvSpPr>
            <p:spPr>
              <a:xfrm>
                <a:off x="5076720" y="3068640"/>
                <a:ext cx="2519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Object 4"/>
              <p:cNvSpPr txBox="1"/>
              <p:nvPr/>
            </p:nvSpPr>
            <p:spPr>
              <a:xfrm>
                <a:off x="441360" y="4724280"/>
                <a:ext cx="348300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γδ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7" name="Object 5"/>
              <p:cNvSpPr txBox="1"/>
              <p:nvPr/>
            </p:nvSpPr>
            <p:spPr>
              <a:xfrm>
                <a:off x="4788000" y="5373720"/>
                <a:ext cx="22320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8" name="Object 1"/>
              <p:cNvSpPr txBox="1"/>
              <p:nvPr/>
            </p:nvSpPr>
            <p:spPr>
              <a:xfrm>
                <a:off x="395280" y="765000"/>
                <a:ext cx="532908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Object 2"/>
              <p:cNvSpPr txBox="1"/>
              <p:nvPr/>
            </p:nvSpPr>
            <p:spPr>
              <a:xfrm>
                <a:off x="6372360" y="1557360"/>
                <a:ext cx="18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Object 3"/>
              <p:cNvSpPr txBox="1"/>
              <p:nvPr/>
            </p:nvSpPr>
            <p:spPr>
              <a:xfrm>
                <a:off x="395280" y="2708280"/>
                <a:ext cx="604836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β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γ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μ</m:t>
                                  </m:r>
                                  <m:r>
                                    <m:t xml:space="preserve">/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β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γ</m:t>
                                  </m:r>
                                  <m:r>
                                    <m:t xml:space="preserve">)</m:t>
                                  </m:r>
                                </m:num>
                                <m:den>
                                  <m:r>
                                    <m:t xml:space="preserve">δ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μ</m:t>
                                  </m:r>
                                  <m:r>
                                    <m:t xml:space="preserve">/</m:t>
                                  </m:r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den>
                              </m:f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  <m:sup>
                                  <m:r>
                                    <m:t xml:space="preserve">i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m</m:t>
                                  </m:r>
                                </m:num>
                                <m:den>
                                  <m:sSup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  <m:sup>
                                      <m:r>
                                        <m:t xml:space="preserve">i</m:t>
                                      </m:r>
                                    </m:sup>
                                  </m:sSup>
                                  <m:sSub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  <m:sub>
                                      <m:r>
                                        <m:t xml:space="preserve">t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"/>
              <p:cNvSpPr txBox="1"/>
              <p:nvPr/>
            </p:nvSpPr>
            <p:spPr>
              <a:xfrm>
                <a:off x="6659640" y="3141720"/>
                <a:ext cx="2233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L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Object 5"/>
              <p:cNvSpPr txBox="1"/>
              <p:nvPr/>
            </p:nvSpPr>
            <p:spPr>
              <a:xfrm>
                <a:off x="6659640" y="4365720"/>
                <a:ext cx="21366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,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6"/>
          <p:cNvSpPr/>
          <p:nvPr/>
        </p:nvSpPr>
        <p:spPr>
          <a:xfrm>
            <a:off x="519120" y="541440"/>
            <a:ext cx="36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cision to Mig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Object 1"/>
              <p:cNvSpPr txBox="1"/>
              <p:nvPr/>
            </p:nvSpPr>
            <p:spPr>
              <a:xfrm>
                <a:off x="4356000" y="333360"/>
                <a:ext cx="25196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Object 2"/>
              <p:cNvSpPr txBox="1"/>
              <p:nvPr/>
            </p:nvSpPr>
            <p:spPr>
              <a:xfrm>
                <a:off x="324000" y="1773360"/>
                <a:ext cx="8424720" cy="21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324000" y="404640"/>
            <a:ext cx="7559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Non-Migrants 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Object 1"/>
              <p:cNvSpPr txBox="1"/>
              <p:nvPr/>
            </p:nvSpPr>
            <p:spPr>
              <a:xfrm>
                <a:off x="324000" y="1125360"/>
                <a:ext cx="8424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8" name="Rectangle 3"/>
          <p:cNvSpPr/>
          <p:nvPr/>
        </p:nvSpPr>
        <p:spPr>
          <a:xfrm>
            <a:off x="539640" y="2211480"/>
            <a:ext cx="73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Non-Migrants Fert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4"/>
              <p:cNvSpPr txBox="1"/>
              <p:nvPr/>
            </p:nvSpPr>
            <p:spPr>
              <a:xfrm>
                <a:off x="395280" y="2924280"/>
                <a:ext cx="81374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0" name="Rectangle 5"/>
          <p:cNvSpPr/>
          <p:nvPr/>
        </p:nvSpPr>
        <p:spPr>
          <a:xfrm>
            <a:off x="250920" y="4365720"/>
            <a:ext cx="792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Non-Migrants Per-Child H.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7"/>
              <p:cNvSpPr txBox="1"/>
              <p:nvPr/>
            </p:nvSpPr>
            <p:spPr>
              <a:xfrm>
                <a:off x="324000" y="4941720"/>
                <a:ext cx="8280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324000" y="404640"/>
            <a:ext cx="7559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Migrants Consump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439560" y="2781360"/>
            <a:ext cx="732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Migrants Fert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254160" y="4508640"/>
            <a:ext cx="8494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ffect of Migration on Migrants Offspring’s Per-Child H.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2"/>
              <p:cNvSpPr txBox="1"/>
              <p:nvPr/>
            </p:nvSpPr>
            <p:spPr>
              <a:xfrm>
                <a:off x="324000" y="1125360"/>
                <a:ext cx="85690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/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6" name="Object 6"/>
              <p:cNvSpPr txBox="1"/>
              <p:nvPr/>
            </p:nvSpPr>
            <p:spPr>
              <a:xfrm>
                <a:off x="324000" y="1773360"/>
                <a:ext cx="43671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8"/>
              <p:cNvSpPr txBox="1"/>
              <p:nvPr/>
            </p:nvSpPr>
            <p:spPr>
              <a:xfrm>
                <a:off x="324000" y="3357720"/>
                <a:ext cx="77770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/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Object 9"/>
              <p:cNvSpPr txBox="1"/>
              <p:nvPr/>
            </p:nvSpPr>
            <p:spPr>
              <a:xfrm>
                <a:off x="324000" y="5229360"/>
                <a:ext cx="81356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≡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δ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6"/>
          <p:cNvSpPr/>
          <p:nvPr/>
        </p:nvSpPr>
        <p:spPr>
          <a:xfrm>
            <a:off x="539640" y="57312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tility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Object 1"/>
              <p:cNvSpPr txBox="1"/>
              <p:nvPr/>
            </p:nvSpPr>
            <p:spPr>
              <a:xfrm>
                <a:off x="395280" y="1687680"/>
                <a:ext cx="2357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1" name="Rectangle 3"/>
          <p:cNvSpPr/>
          <p:nvPr/>
        </p:nvSpPr>
        <p:spPr>
          <a:xfrm>
            <a:off x="3432240" y="183996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4"/>
              <p:cNvSpPr txBox="1"/>
              <p:nvPr/>
            </p:nvSpPr>
            <p:spPr>
              <a:xfrm>
                <a:off x="395280" y="3141720"/>
                <a:ext cx="3024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Object 5"/>
              <p:cNvSpPr txBox="1"/>
              <p:nvPr/>
            </p:nvSpPr>
            <p:spPr>
              <a:xfrm>
                <a:off x="4356000" y="2949480"/>
                <a:ext cx="43196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</m:num>
                      <m:den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M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4" name="Rectangle 6"/>
          <p:cNvSpPr/>
          <p:nvPr/>
        </p:nvSpPr>
        <p:spPr>
          <a:xfrm>
            <a:off x="3778920" y="328464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Object 7"/>
              <p:cNvSpPr txBox="1"/>
              <p:nvPr/>
            </p:nvSpPr>
            <p:spPr>
              <a:xfrm>
                <a:off x="358920" y="4578480"/>
                <a:ext cx="30970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&gt;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66" name="Rectangle 8"/>
          <p:cNvSpPr/>
          <p:nvPr/>
        </p:nvSpPr>
        <p:spPr>
          <a:xfrm>
            <a:off x="3686760" y="478152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Object 9"/>
              <p:cNvSpPr txBox="1"/>
              <p:nvPr/>
            </p:nvSpPr>
            <p:spPr>
              <a:xfrm>
                <a:off x="4356000" y="4419720"/>
                <a:ext cx="45370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</m:num>
                      <m:den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M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M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β</m:t>
                            </m:r>
                          </m:den>
                        </m:f>
                      </m:sup>
                    </m:sSup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669960" y="298440"/>
            <a:ext cx="721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ynamical System:  Average H.C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Object 3"/>
              <p:cNvSpPr txBox="1"/>
              <p:nvPr/>
            </p:nvSpPr>
            <p:spPr>
              <a:xfrm>
                <a:off x="324000" y="879480"/>
                <a:ext cx="85485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/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0" name="Object 1"/>
              <p:cNvSpPr txBox="1"/>
              <p:nvPr/>
            </p:nvSpPr>
            <p:spPr>
              <a:xfrm>
                <a:off x="1116000" y="2349360"/>
                <a:ext cx="7704000" cy="19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≤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≤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1" name="Rectangle 2"/>
          <p:cNvSpPr/>
          <p:nvPr/>
        </p:nvSpPr>
        <p:spPr>
          <a:xfrm>
            <a:off x="228960" y="1989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117000" y="429264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Object 4"/>
              <p:cNvSpPr txBox="1"/>
              <p:nvPr/>
            </p:nvSpPr>
            <p:spPr>
              <a:xfrm>
                <a:off x="1619280" y="4869000"/>
                <a:ext cx="712944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593640" y="404640"/>
            <a:ext cx="79408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per analyzes the effect of migration from a less advanced economy to a more advanced economy on the intertemporal evolution of human capital in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econom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show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-migration increases fertility and reduces human capital in the source  econom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In-migration reduces fertility and can increase or decrease human capital in the host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3"/>
          <p:cNvSpPr/>
          <p:nvPr/>
        </p:nvSpPr>
        <p:spPr>
          <a:xfrm>
            <a:off x="324000" y="42372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Level of H.C. in the World With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Object 1"/>
              <p:cNvSpPr txBox="1"/>
              <p:nvPr/>
            </p:nvSpPr>
            <p:spPr>
              <a:xfrm>
                <a:off x="474840" y="973080"/>
                <a:ext cx="5465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6" name="Object 2"/>
              <p:cNvSpPr txBox="1"/>
              <p:nvPr/>
            </p:nvSpPr>
            <p:spPr>
              <a:xfrm>
                <a:off x="179280" y="2565360"/>
                <a:ext cx="4608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7" name="Object 3"/>
              <p:cNvSpPr txBox="1"/>
              <p:nvPr/>
            </p:nvSpPr>
            <p:spPr>
              <a:xfrm>
                <a:off x="4788000" y="2276640"/>
                <a:ext cx="4105080" cy="12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8" name="Object 4"/>
              <p:cNvSpPr txBox="1"/>
              <p:nvPr/>
            </p:nvSpPr>
            <p:spPr>
              <a:xfrm>
                <a:off x="250920" y="3645000"/>
                <a:ext cx="43084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9" name="Object 5"/>
              <p:cNvSpPr txBox="1"/>
              <p:nvPr/>
            </p:nvSpPr>
            <p:spPr>
              <a:xfrm>
                <a:off x="4559400" y="4005360"/>
                <a:ext cx="42606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Object 6"/>
              <p:cNvSpPr txBox="1"/>
              <p:nvPr/>
            </p:nvSpPr>
            <p:spPr>
              <a:xfrm>
                <a:off x="324000" y="5157720"/>
                <a:ext cx="454968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3"/>
          <p:cNvSpPr/>
          <p:nvPr/>
        </p:nvSpPr>
        <p:spPr>
          <a:xfrm>
            <a:off x="179280" y="42084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verage Level of H.C. in the World Without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Object 7"/>
              <p:cNvSpPr txBox="1"/>
              <p:nvPr/>
            </p:nvSpPr>
            <p:spPr>
              <a:xfrm>
                <a:off x="344520" y="1197000"/>
                <a:ext cx="71071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8"/>
              <p:cNvSpPr txBox="1"/>
              <p:nvPr/>
            </p:nvSpPr>
            <p:spPr>
              <a:xfrm>
                <a:off x="1042920" y="2637000"/>
                <a:ext cx="52578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9"/>
              <p:cNvSpPr txBox="1"/>
              <p:nvPr/>
            </p:nvSpPr>
            <p:spPr>
              <a:xfrm>
                <a:off x="324000" y="4149720"/>
                <a:ext cx="41036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4427640" y="4221000"/>
                <a:ext cx="410508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3"/>
          <p:cNvSpPr/>
          <p:nvPr/>
        </p:nvSpPr>
        <p:spPr>
          <a:xfrm>
            <a:off x="324000" y="423720"/>
            <a:ext cx="85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erage Level of H.C. i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ithout Mi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Object 1"/>
              <p:cNvSpPr txBox="1"/>
              <p:nvPr/>
            </p:nvSpPr>
            <p:spPr>
              <a:xfrm>
                <a:off x="431640" y="1197000"/>
                <a:ext cx="83534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  <m:r>
                      <m:t xml:space="preserve">/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8" name="Rectangle 2"/>
          <p:cNvSpPr/>
          <p:nvPr/>
        </p:nvSpPr>
        <p:spPr>
          <a:xfrm>
            <a:off x="318960" y="2492280"/>
            <a:ext cx="835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erage Level of H.C. i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ith Mig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Object 3"/>
              <p:cNvSpPr txBox="1"/>
              <p:nvPr/>
            </p:nvSpPr>
            <p:spPr>
              <a:xfrm>
                <a:off x="309600" y="3213000"/>
                <a:ext cx="47671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Object 4"/>
              <p:cNvSpPr txBox="1"/>
              <p:nvPr/>
            </p:nvSpPr>
            <p:spPr>
              <a:xfrm>
                <a:off x="826920" y="4365720"/>
                <a:ext cx="428472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Object 5"/>
              <p:cNvSpPr txBox="1"/>
              <p:nvPr/>
            </p:nvSpPr>
            <p:spPr>
              <a:xfrm>
                <a:off x="971640" y="5516640"/>
                <a:ext cx="2952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6"/>
              <p:cNvSpPr txBox="1"/>
              <p:nvPr/>
            </p:nvSpPr>
            <p:spPr>
              <a:xfrm>
                <a:off x="3995640" y="5732640"/>
                <a:ext cx="396108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3"/>
          <p:cNvSpPr/>
          <p:nvPr/>
        </p:nvSpPr>
        <p:spPr>
          <a:xfrm>
            <a:off x="539640" y="423720"/>
            <a:ext cx="6985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ublic Policy Interven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e common lump-sum t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ump-sum subs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565200" y="2205000"/>
            <a:ext cx="302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rain Dilution Ta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"/>
              <p:cNvSpPr txBox="1"/>
              <p:nvPr/>
            </p:nvSpPr>
            <p:spPr>
              <a:xfrm>
                <a:off x="4427640" y="907920"/>
                <a:ext cx="2905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2"/>
              <p:cNvSpPr txBox="1"/>
              <p:nvPr/>
            </p:nvSpPr>
            <p:spPr>
              <a:xfrm>
                <a:off x="4427640" y="1268280"/>
                <a:ext cx="2887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7" name="Object 3"/>
              <p:cNvSpPr txBox="1"/>
              <p:nvPr/>
            </p:nvSpPr>
            <p:spPr>
              <a:xfrm>
                <a:off x="4140360" y="1773360"/>
                <a:ext cx="324000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8" name="Rectangle 4"/>
          <p:cNvSpPr/>
          <p:nvPr/>
        </p:nvSpPr>
        <p:spPr>
          <a:xfrm>
            <a:off x="565200" y="3287880"/>
            <a:ext cx="151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ert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9" name="Object 5"/>
              <p:cNvSpPr txBox="1"/>
              <p:nvPr/>
            </p:nvSpPr>
            <p:spPr>
              <a:xfrm>
                <a:off x="539640" y="3781440"/>
                <a:ext cx="576108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0" name="Object 6"/>
              <p:cNvSpPr txBox="1"/>
              <p:nvPr/>
            </p:nvSpPr>
            <p:spPr>
              <a:xfrm>
                <a:off x="468360" y="5157720"/>
                <a:ext cx="61196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β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3"/>
          <p:cNvSpPr/>
          <p:nvPr/>
        </p:nvSpPr>
        <p:spPr>
          <a:xfrm>
            <a:off x="324000" y="423720"/>
            <a:ext cx="856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erage Level of H.C. in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With Tax and Subsid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1"/>
              <p:cNvSpPr txBox="1"/>
              <p:nvPr/>
            </p:nvSpPr>
            <p:spPr>
              <a:xfrm>
                <a:off x="311040" y="1268280"/>
                <a:ext cx="68533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3" name="Object 2"/>
              <p:cNvSpPr txBox="1"/>
              <p:nvPr/>
            </p:nvSpPr>
            <p:spPr>
              <a:xfrm>
                <a:off x="971640" y="2781360"/>
                <a:ext cx="540072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Object 3"/>
              <p:cNvSpPr txBox="1"/>
              <p:nvPr/>
            </p:nvSpPr>
            <p:spPr>
              <a:xfrm>
                <a:off x="179280" y="4508640"/>
                <a:ext cx="42483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Object 4"/>
              <p:cNvSpPr txBox="1"/>
              <p:nvPr/>
            </p:nvSpPr>
            <p:spPr>
              <a:xfrm>
                <a:off x="4356000" y="4581360"/>
                <a:ext cx="4392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3"/>
          <p:cNvSpPr/>
          <p:nvPr/>
        </p:nvSpPr>
        <p:spPr>
          <a:xfrm>
            <a:off x="179280" y="423720"/>
            <a:ext cx="8137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verage Level of H.C. in the World Econom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Object 5"/>
              <p:cNvSpPr txBox="1"/>
              <p:nvPr/>
            </p:nvSpPr>
            <p:spPr>
              <a:xfrm>
                <a:off x="324000" y="1052640"/>
                <a:ext cx="57607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K</m:t>
                        </m:r>
                      </m:sup>
                    </m:sSubSup>
                    <m:r>
                      <m:t xml:space="preserve">(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Object 6"/>
              <p:cNvSpPr txBox="1"/>
              <p:nvPr/>
            </p:nvSpPr>
            <p:spPr>
              <a:xfrm>
                <a:off x="179280" y="2637000"/>
                <a:ext cx="4321440" cy="86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9" name="Object 7"/>
              <p:cNvSpPr txBox="1"/>
              <p:nvPr/>
            </p:nvSpPr>
            <p:spPr>
              <a:xfrm>
                <a:off x="4500720" y="2349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0" name="Object 8"/>
              <p:cNvSpPr txBox="1"/>
              <p:nvPr/>
            </p:nvSpPr>
            <p:spPr>
              <a:xfrm>
                <a:off x="539640" y="3716280"/>
                <a:ext cx="3816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1" name="Object 9"/>
              <p:cNvSpPr txBox="1"/>
              <p:nvPr/>
            </p:nvSpPr>
            <p:spPr>
              <a:xfrm>
                <a:off x="395280" y="5013360"/>
                <a:ext cx="48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2" name="Object 10"/>
              <p:cNvSpPr txBox="1"/>
              <p:nvPr/>
            </p:nvSpPr>
            <p:spPr>
              <a:xfrm>
                <a:off x="5148360" y="4797360"/>
                <a:ext cx="374472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3" name="Object 5"/>
              <p:cNvSpPr txBox="1"/>
              <p:nvPr/>
            </p:nvSpPr>
            <p:spPr>
              <a:xfrm>
                <a:off x="468360" y="1341360"/>
                <a:ext cx="7704000" cy="15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K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K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K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K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Object 6"/>
              <p:cNvSpPr txBox="1"/>
              <p:nvPr/>
            </p:nvSpPr>
            <p:spPr>
              <a:xfrm>
                <a:off x="520560" y="4005360"/>
                <a:ext cx="5996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∫"/>
                            <m:supHide m:val="1"/>
                          </m:naryPr>
                          <m:sub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/>
                                </m:acc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δ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μ</m:t>
                            </m:r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LD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5" name="Rectangle 7"/>
          <p:cNvSpPr/>
          <p:nvPr/>
        </p:nvSpPr>
        <p:spPr>
          <a:xfrm>
            <a:off x="611280" y="519120"/>
            <a:ext cx="597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hreshold Level of Migrants’ H.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8"/>
          <p:cNvSpPr/>
          <p:nvPr/>
        </p:nvSpPr>
        <p:spPr>
          <a:xfrm>
            <a:off x="520560" y="3198960"/>
            <a:ext cx="3638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rain Dilution Ta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3"/>
          <p:cNvSpPr/>
          <p:nvPr/>
        </p:nvSpPr>
        <p:spPr>
          <a:xfrm>
            <a:off x="223920" y="333360"/>
            <a:ext cx="84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erage Level of H.C. in the World Economy with subsid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1"/>
              <p:cNvSpPr txBox="1"/>
              <p:nvPr/>
            </p:nvSpPr>
            <p:spPr>
              <a:xfrm>
                <a:off x="395280" y="907920"/>
                <a:ext cx="2089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3"/>
              <p:cNvSpPr txBox="1"/>
              <p:nvPr/>
            </p:nvSpPr>
            <p:spPr>
              <a:xfrm>
                <a:off x="395280" y="1484280"/>
                <a:ext cx="66247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M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</m:d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p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4"/>
              <p:cNvSpPr txBox="1"/>
              <p:nvPr/>
            </p:nvSpPr>
            <p:spPr>
              <a:xfrm>
                <a:off x="223920" y="2708280"/>
                <a:ext cx="45972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W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γ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γ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Object 11"/>
              <p:cNvSpPr txBox="1"/>
              <p:nvPr/>
            </p:nvSpPr>
            <p:spPr>
              <a:xfrm>
                <a:off x="4865760" y="2852640"/>
                <a:ext cx="38098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12"/>
              <p:cNvSpPr txBox="1"/>
              <p:nvPr/>
            </p:nvSpPr>
            <p:spPr>
              <a:xfrm>
                <a:off x="696960" y="3429000"/>
                <a:ext cx="2476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Object 13"/>
              <p:cNvSpPr txBox="1"/>
              <p:nvPr/>
            </p:nvSpPr>
            <p:spPr>
              <a:xfrm>
                <a:off x="3203640" y="3429000"/>
                <a:ext cx="365760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γ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NM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t xml:space="preserve">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Object 14"/>
              <p:cNvSpPr txBox="1"/>
              <p:nvPr/>
            </p:nvSpPr>
            <p:spPr>
              <a:xfrm>
                <a:off x="826920" y="4365720"/>
                <a:ext cx="24638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/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5" name="Object 15"/>
              <p:cNvSpPr txBox="1"/>
              <p:nvPr/>
            </p:nvSpPr>
            <p:spPr>
              <a:xfrm>
                <a:off x="3368520" y="4149720"/>
                <a:ext cx="2286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Object 16"/>
              <p:cNvSpPr txBox="1"/>
              <p:nvPr/>
            </p:nvSpPr>
            <p:spPr>
              <a:xfrm>
                <a:off x="900000" y="5084640"/>
                <a:ext cx="37720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  <m:r>
                              <m:t xml:space="preserve">,</m:t>
                            </m:r>
                            <m:r>
                              <m:t xml:space="preserve">M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  <m:r>
                                          <m:t xml:space="preserve">,</m:t>
                                        </m:r>
                                        <m:r>
                                          <m:t xml:space="preserve">M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Object 17"/>
              <p:cNvSpPr txBox="1"/>
              <p:nvPr/>
            </p:nvSpPr>
            <p:spPr>
              <a:xfrm>
                <a:off x="826920" y="6021360"/>
                <a:ext cx="51818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∫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D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M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h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D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M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D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NM</m:t>
                                            </m:r>
                                          </m:sup>
                                        </m:sSubSup>
                                        <m:r>
                                          <m:t xml:space="preserve">)</m:t>
                                        </m:r>
                                      </m:num>
                                      <m:den>
                                        <m:sSubSup>
                                          <m:e>
                                            <m:acc>
                                              <m:accPr>
                                                <m:chr m:val="¯"/>
                                              </m:accPr>
                                              <m:e>
                                                <m:r>
                                                  <m:t xml:space="preserve">h</m:t>
                                                </m:r>
                                              </m:e>
                                            </m:acc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D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M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t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MD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M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  <m:r>
                                          <m:t xml:space="preserve">)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M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D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d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</m:e>
                    </m:nary>
                    <m:r>
                      <m:t xml:space="preserve">/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Object 18"/>
              <p:cNvSpPr txBox="1"/>
              <p:nvPr/>
            </p:nvSpPr>
            <p:spPr>
              <a:xfrm>
                <a:off x="6084720" y="6093000"/>
                <a:ext cx="2057400" cy="54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pHide m:val="1"/>
                      </m:naryPr>
                      <m: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sSubSup>
                          <m:e>
                            <m:acc>
                              <m:accPr>
                                <m:chr m:val="^"/>
                              </m:accPr>
                              <m:e/>
                            </m:acc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b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539640" y="519120"/>
            <a:ext cx="813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complete Assimilation of the Migrants’ Offsp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Object 1"/>
              <p:cNvSpPr txBox="1"/>
              <p:nvPr/>
            </p:nvSpPr>
            <p:spPr>
              <a:xfrm>
                <a:off x="395280" y="1916280"/>
                <a:ext cx="7129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ψ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D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ψ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LD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1" name="Rectangle 2"/>
          <p:cNvSpPr/>
          <p:nvPr/>
        </p:nvSpPr>
        <p:spPr>
          <a:xfrm>
            <a:off x="395280" y="126828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uman Capital Produc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2" name="Object 3"/>
              <p:cNvSpPr txBox="1"/>
              <p:nvPr/>
            </p:nvSpPr>
            <p:spPr>
              <a:xfrm>
                <a:off x="1444680" y="3068640"/>
                <a:ext cx="12938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ψ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3" name="Object 4"/>
              <p:cNvSpPr txBox="1"/>
              <p:nvPr/>
            </p:nvSpPr>
            <p:spPr>
              <a:xfrm>
                <a:off x="3103560" y="2997360"/>
                <a:ext cx="3521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γ</m:t>
                    </m:r>
                    <m:r>
                      <m:t xml:space="preserve">&lt;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μ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4" name="Rectangle 9"/>
          <p:cNvSpPr/>
          <p:nvPr/>
        </p:nvSpPr>
        <p:spPr>
          <a:xfrm>
            <a:off x="395280" y="4149720"/>
            <a:ext cx="52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shold Level of Migrants’ H.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10"/>
              <p:cNvSpPr txBox="1"/>
              <p:nvPr/>
            </p:nvSpPr>
            <p:spPr>
              <a:xfrm>
                <a:off x="395280" y="4869000"/>
                <a:ext cx="79218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h</m:t>
                            </m:r>
                          </m:e>
                        </m:acc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D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D</m:t>
                            </m:r>
                          </m:sup>
                        </m:sSubSup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t xml:space="preserve">ψ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sup>
                                    </m:sSubSup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ψ</m:t>
                                    </m:r>
                                    <m:sSub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L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D</m:t>
                                        </m:r>
                                      </m:sup>
                                    </m:sSubSup>
                                    <m:r>
                                      <m:t xml:space="preserve">)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β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593640" y="404640"/>
            <a:ext cx="79408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aper analyzes the effect of migration from a less advanced economy to a more advanced economy on the intertemporal evolution of human capital in t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econom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shows t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-migration increases fertility and reduces human capital in the source  econom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In-migration reduces fertility and can increase or decrease human capital in the host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593640" y="1700280"/>
            <a:ext cx="80168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 imposed on immigrants in the host economy can increase human capital accumulation in the receiving and sending economies and the world as a wh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593640" y="1700280"/>
            <a:ext cx="8016840" cy="23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ax imposed on immigrants in the host economy can increase human capital accumulation in the receiving and sending economies and the world as a who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385920" y="752400"/>
            <a:ext cx="8091360" cy="38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 Flows of migration have been considerably spatially concentr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Destin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rtel (1989); Borjas (1998; 1999); Edin, Fredriksson, Aslund (2003); Stark (199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- Origin (Theory of Migration Network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cKenzie and Rapoport (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352440" y="4664160"/>
            <a:ext cx="825192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Pattern of Migration (International and Inter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ople typically move from less developed, less densely populated areas to more developed, more densely populated a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611280" y="260280"/>
            <a:ext cx="70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tivating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"/>
          <p:cNvSpPr/>
          <p:nvPr/>
        </p:nvSpPr>
        <p:spPr>
          <a:xfrm>
            <a:off x="395280" y="333360"/>
            <a:ext cx="8229600" cy="43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per’s basic ques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How does migration from a less advanced region or country to a more advanced region or country affect economic grow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two-country growth model with endogenous fertility in the tradition of Galor and Tsiddon (1997a) building on Azarnert (2010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s: Galor (2005; 2011; 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468360" y="4797360"/>
            <a:ext cx="792144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per’s contribu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the literature on endogenous fertility and growth: to introduce “congestion diseconom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395280" y="333360"/>
            <a:ext cx="82296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gestion Disecono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nemoto (1980); Fujita (1989); Tobuchi (1998); Duranton and Puga (2004); Sato and Yamamoto (2005); Venables (2005); Henderson and Wang (2005); Sato (2007); Henderson and Venables (2009), among ot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sic 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ll business activities in a city occur in a Central Business Distr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orkers live in a circle of residences surrounding the C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e commuting costs and the land rent increase with population density, which reduces the workers’ disposable time and inc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395280" y="333360"/>
            <a:ext cx="8229600" cy="53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ature of the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ngestion decreases fer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e: Murphy, Simon, Tamura (2008); Simon and Tamura (2009); Kulu, Boyle, Andersson (2009); Yi, Zhang (2010); Strom (2010); Clark (2011); Ost (2011); Malmberg (2012); Hui, Zheng, Hu (2012), among oth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ory: Sato and Yamamoto (2005); Sato (2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Theoretical Works do NOT consider investment in huma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Paper’s Contribu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Human Capital Accu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411120" y="189000"/>
            <a:ext cx="8229600" cy="65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per’s major contribu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the literature on migration and brain d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Classical Brain Drain litera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: Bhagwati and Wilson (198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Brain Drain with Brain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y: De la Croix and Rapoport (201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Criticism: Schiff (200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p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s the classical approach in the BD literature: A less developed country open to out-migration loses its higher skilled wor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ositive self-selection among migrants due to Costs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"/>
          <p:cNvSpPr/>
          <p:nvPr/>
        </p:nvSpPr>
        <p:spPr>
          <a:xfrm>
            <a:off x="628560" y="549360"/>
            <a:ext cx="79408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Model’s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-migration always reduces human capital accumulation in the source  econom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In-migration can increase or decrease human capital accumulation in the host ec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A “Brain Dilution Tax” imposed on immigrants in the host economy can increase human capital accumulation in the receiving and sending economies and the world as a who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6T13:58:42Z</dcterms:created>
  <dc:creator>leonida</dc:creator>
  <dc:description/>
  <dc:language>en-US</dc:language>
  <cp:lastModifiedBy>Administrator</cp:lastModifiedBy>
  <dcterms:modified xsi:type="dcterms:W3CDTF">2015-11-28T16:47:23Z</dcterms:modified>
  <cp:revision>103</cp:revision>
  <dc:subject/>
  <dc:title>PowerPoint Presentation</dc:title>
</cp:coreProperties>
</file>