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B8D-5EA6-4511-ABAD-175F4239E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7FC9-47E0-4473-A596-747001577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44AE-69E2-45F2-A52B-62F3EC2B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00C1-B7C2-4496-BDED-7DD62BDC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95F8-993E-4637-BC41-7C60AC60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E646-4A2D-44F6-B00D-C6BB7871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7158-D566-4CED-8DD0-1A127F68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549-7E8A-4DC8-BAB7-454DCE10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2BF4-1904-4E86-8C1F-96892ACA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A502-52DA-4169-9BD4-EBCEDEAE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7CA0-AA35-4309-BD36-B98ABA55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E9E8-27A7-4880-92A7-220DD4C2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9BE4-1F1E-449B-AF8F-E74EB44068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360"/>
            <a:ext cx="77724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alibri"/>
              </a:rPr>
              <a:t>The Ruble between the hammer and the anvil: Oil prices and economic sanction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5445000"/>
            <a:ext cx="6400800" cy="8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Christian Dreger, DIW Ber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Cointegration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24000" y="1268280"/>
          <a:ext cx="8496000" cy="914400"/>
        </p:xfrm>
        <a:graphic>
          <a:graphicData uri="http://schemas.openxmlformats.org/drawingml/2006/table">
            <a:tbl>
              <a:tblPr/>
              <a:tblGrid>
                <a:gridCol w="849240"/>
                <a:gridCol w="1557360"/>
                <a:gridCol w="1557360"/>
                <a:gridCol w="1701720"/>
                <a:gridCol w="1415880"/>
                <a:gridCol w="1414440"/>
              </a:tblGrid>
              <a:tr h="520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r≤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r≤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r≤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r≤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r≤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r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1.85 (0.03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.08 (0.5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40 (0.87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78 (0.87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81 (0.36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324000" y="2349360"/>
          <a:ext cx="8496000" cy="4175280"/>
        </p:xfrm>
        <a:graphic>
          <a:graphicData uri="http://schemas.openxmlformats.org/drawingml/2006/table">
            <a:tbl>
              <a:tblPr/>
              <a:tblGrid>
                <a:gridCol w="1871640"/>
                <a:gridCol w="1655640"/>
                <a:gridCol w="1657440"/>
                <a:gridCol w="1582560"/>
                <a:gridCol w="1728720"/>
              </a:tblGrid>
              <a:tr h="543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nrestricted 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tricted mod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2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u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49 (0.00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45 (0.00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il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853 (0.29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2 (0.00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37 (0.22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U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72 (0.0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503 (0.29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79 (0.0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515 (0.27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nctions 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6 (0.00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79 (0.24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5 (0.00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nctions Russ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8 (0.00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295 (0.26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9 (0.0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Impulse respon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rcRect l="0" t="0" r="29876" b="31980"/>
          <a:stretch/>
        </p:blipFill>
        <p:spPr>
          <a:xfrm>
            <a:off x="108000" y="1197000"/>
            <a:ext cx="881388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Cointegrated VAR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23640" y="126828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ointegration vector is unique, interpreted as Ruble equation (weak exogene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Generalized impulse responses reveal that oil price is most relev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All responses show the expected sig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mpact of sanctions on Ruble can be negl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anctions interrelated, Russian response affected by Western sanctions, but escalation spiral not visib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Results confirmed by decomposition of variance of forecast erro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Multivariate GARCH for VAR err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95280" y="1484280"/>
          <a:ext cx="8569440" cy="4897440"/>
        </p:xfrm>
        <a:graphic>
          <a:graphicData uri="http://schemas.openxmlformats.org/drawingml/2006/table">
            <a:tbl>
              <a:tblPr/>
              <a:tblGrid>
                <a:gridCol w="1152360"/>
                <a:gridCol w="1368720"/>
                <a:gridCol w="1368360"/>
                <a:gridCol w="1366920"/>
                <a:gridCol w="1728720"/>
                <a:gridCol w="1584360"/>
              </a:tblGrid>
              <a:tr h="389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ubl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i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UON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nc We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nc Russ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sta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2 (0.001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1 (0.001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5 (0.04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90 (0.061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0 (0.001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ARCH La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22 (0.01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916 (0.02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47 (0.047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33 (0.034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35 (0.02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RCH La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338 (0.031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09 (0.04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584 (0.05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84 (0.09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699 (0.084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d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9 (0.00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827 (0.08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dia(-1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05 (0.004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11 (0.004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dia(-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5 (0.004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08 (0.004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254 (0.16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267 (0.114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34 (0.027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dia(-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014 (0.004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235 (0.169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737 (0.08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dia(-4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14 (0.004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716 (0.10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53 (0.028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edia(-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0.371 (0.12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133 (0.023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9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Bulk of Ruble depreciation caused by oil pr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anctions not important for the development of the Ru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Unanticipated sanctions increase volatility in international commodity (oil) mark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Can harm economic growth, policies should be as transparent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Media reports are partially self fulfil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f stronger sanctions are expected, policymakers become less reluctant to further sa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Idea of the pa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mpact of sanctions on Russian econo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mplemented because of conflict with Ukra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riving forces of Ruble exchange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ue to quarterly frequency of national accounts only a few data points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uble of key relevance for Russian economy, is available at high frequ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Russia heavily depends on natural res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 addition to sanctions, oil prices might explain the Ruble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uble exchange r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Objekt 4"/>
          <p:cNvGraphicFramePr/>
          <p:nvPr/>
        </p:nvGraphicFramePr>
        <p:xfrm>
          <a:off x="468360" y="1700280"/>
          <a:ext cx="835164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Objek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35164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Rectangle 3"/>
          <p:cNvSpPr/>
          <p:nvPr/>
        </p:nvSpPr>
        <p:spPr>
          <a:xfrm>
            <a:off x="0" y="275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feld 6"/>
          <p:cNvSpPr/>
          <p:nvPr/>
        </p:nvSpPr>
        <p:spPr>
          <a:xfrm>
            <a:off x="479880" y="1268280"/>
            <a:ext cx="282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  <a:ea typeface="Arial"/>
              </a:rPr>
              <a:t>Per USD (line) and eu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Oil price 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Diagramm 1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497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Measuring sa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Different strength of sa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uspension of international talks, restrictions to individuals and companies, sanctions to industrial se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Composite sanction index constructed by adding (0.1) dummies for individual san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Indicator unweighted or weigh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Weights control for strength of sanctions and trade shares of countries with Rus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dicators for Western and Russian sanc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Economic sa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Objekt 4"/>
          <p:cNvGraphicFramePr/>
          <p:nvPr/>
        </p:nvGraphicFramePr>
        <p:xfrm>
          <a:off x="611280" y="1844640"/>
          <a:ext cx="806436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Objek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44640"/>
                    <a:ext cx="806436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Rectangle 3"/>
          <p:cNvSpPr/>
          <p:nvPr/>
        </p:nvSpPr>
        <p:spPr>
          <a:xfrm>
            <a:off x="0" y="2759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feld 6"/>
          <p:cNvSpPr/>
          <p:nvPr/>
        </p:nvSpPr>
        <p:spPr>
          <a:xfrm>
            <a:off x="740880" y="1341360"/>
            <a:ext cx="381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alibri"/>
                <a:ea typeface="Arial"/>
              </a:rPr>
              <a:t>Unweigthed (line) and weigh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Sanctions and med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anctions complemented by news indic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Sanctions discussed by media even before they are implemented, impact on exchange r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earch for keywords in international p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News of eight countries, including US and Rus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Daily occurences of „Russia“ and „sanctions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Index equal to 0 before Crimea annex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Unanticipated component of sa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esiduals from regression of news on leads of sanctions, is bias introduced by 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Media indic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96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Design of the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alibri"/>
              </a:rPr>
              <a:t>Series from Jan, 1, 2014, 1 to March, 31, 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uble exchange rate, Ruonia interest rate, oil price, Western and Russian sanctions, unexpected component of sanc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Russian banks intervened in the foreign exchange market to stabilize the Ru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Variables nonstationary, except of unanticipated sa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Cointegrated VAR model for variables in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alibri"/>
              </a:rPr>
              <a:t>Multivariate GARCH for the conditional variance of err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2T11:03:29Z</dcterms:created>
  <dc:creator>Christian Dreger</dc:creator>
  <dc:description/>
  <dc:language>en-US</dc:language>
  <cp:lastModifiedBy>Christian Dreger</cp:lastModifiedBy>
  <dcterms:modified xsi:type="dcterms:W3CDTF">2015-07-12T18:22:12Z</dcterms:modified>
  <cp:revision>23</cp:revision>
  <dc:subject/>
  <dc:title>The Ruble between the hammer and the anvil: Oil prices and economic sanctions</dc:title>
</cp:coreProperties>
</file>