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05AC-7752-4F78-A54E-1395F9DB2F41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C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E2F9-07C0-4EAC-BA6D-F77451660F6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6055-0F1D-4FAB-AACC-C099EADC2A4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5349-D4FB-4F5C-9370-AF13E5B1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408-DAD5-430C-8C16-4B3BCCF3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677-BF13-4913-B194-6B7BAEE4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34CE-1F25-4DB5-9AB8-D85342BA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D7FB-5DFA-417A-9554-9812E416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4B8D-68D6-40A6-AB40-3A5E1B0D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A041-898F-4E4B-BC15-A6590F44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B605-3952-4072-B98C-60E5216F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2FA2-A0B6-405D-A904-55CD0FB3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6358-2328-4009-AF08-0C891505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DCD0-F090-41C3-908C-B3CCBDCE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F1C-2BB6-4A47-BC97-9DA77C91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5C37-0399-4D82-A414-208CDEAA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56AE-CCFB-4BAD-BBFD-B9F0BB66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53EB-D5C0-42D7-918C-6804DC36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5B05-940E-4C00-9082-89AC244E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B901-18D3-422C-92DD-053334EB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9F084-4A4E-4E67-A29F-93A91E73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DBAE4-F5B4-4422-A987-3DE07C27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F704-5DA3-4AD5-BB9D-1F9B4971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6ABC9-D86B-44E0-8FBB-F1554A74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BB5EE-25EF-4B34-A404-953D4B9E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6FA-104F-4D3A-8352-FE83BB0A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48F50-16F2-49CD-BFA0-219ADE7D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D5757-7C05-473D-B58F-345697B6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4EEAF-8F97-436D-86B2-6922A35D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98B2-C1EB-4D5F-B451-BFE7E5F7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9A4FB-7CD2-43EA-87A1-04C4B302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FE81D-D815-45EF-82F0-B6E065EE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7F030-3B9A-4339-9F90-9E30FDA1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87DDC-E6F3-45CA-B3D4-AB84D5E4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EE5C3-8B0A-44F5-B88D-BE3962A3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77F15-8E55-48A8-846E-7D03588D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295-1AC2-422E-9993-8EDB4759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CFD2E-44D8-466E-879D-6D863500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D6B86-42E1-4829-B9E0-34DBCF78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D0930-E91B-424A-AC4A-D66F43CD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959A5-85D3-4C8E-B837-FA01945F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FED62-59FE-4381-9EEC-51BA8772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E97F0-30EE-42C6-8055-1F888CF0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B3E9A-03DA-4401-92ED-9541EFF9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F3763-2AE5-47E5-8E85-F7D7E2B9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A0FFD-50B4-4A54-822E-92F8C83B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0ED-2301-4452-AF8D-BF29FAED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1B4-6816-4E2B-A14F-FAD63982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D53-6184-4122-9B8F-D2F494BA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AA4-60B9-48E2-B7BD-5005AB16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543-73C6-4598-A77E-7ACB5CE0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0EB4-AABF-4C99-BFC1-644CFEA2CF78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AC01-AB0B-4EE3-9058-F93EEC6733C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Serbest Form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FB72-259B-4667-BD4B-7271843E3D74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A831-4E82-4002-9ACA-3272A8B52C5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Serbest Form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0450-BDD9-40FE-88AB-3B727A2590A2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05A7-A45C-4FBA-B0CF-8E38FA55155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C1CA-C46A-4936-ABCA-83984AAD0EEC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7E4B-27A8-4331-9966-1115F9B7F0D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530280"/>
            <a:ext cx="7864560" cy="2298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9480" y="2895120"/>
            <a:ext cx="78552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alibri"/>
              </a:rPr>
              <a:t>Harald </a:t>
            </a:r>
            <a:r>
              <a:rPr b="1" lang="tr-TR" sz="2000" spc="-1" strike="noStrike">
                <a:solidFill>
                  <a:srgbClr val="ffffff"/>
                </a:solidFill>
                <a:latin typeface="Calibri"/>
              </a:rPr>
              <a:t>Badinge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Calibri"/>
              </a:rPr>
              <a:t>Vienna University of Economics and Busines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&amp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alibri"/>
              </a:rPr>
              <a:t>Kemal Türkca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Calibri"/>
              </a:rPr>
              <a:t>Akdeniz Universit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Calibri"/>
              </a:rPr>
              <a:t>5th FIW Research Conference “International Economics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Calibri"/>
              </a:rPr>
              <a:t>April 13th, 2012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Calibri"/>
              </a:rPr>
              <a:t>Vienn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Measurement of Export Margi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overall market share of country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’s exports relative to the ROW’s exports to country j is given by the product of EM and IM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hese calculations are also carried out for intermediate and final goods, as well as for 93 HS-2 chapt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2666880" y="3352680"/>
                <a:ext cx="3429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Export Margins of Euro Area Countr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egional composition of the euro area exports reveals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ha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uro area exports have increased for all destination regions since 1999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bu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ncrease in intra-euro and intra-EU exports was more pronounc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mpact of the euro on the exports appears to kick in 1999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imilar development can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also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 observed for final and intermediate goo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1 Başlık" descr=""/>
          <p:cNvPicPr/>
          <p:nvPr/>
        </p:nvPicPr>
        <p:blipFill>
          <a:blip r:embed="rId1"/>
          <a:stretch/>
        </p:blipFill>
        <p:spPr>
          <a:xfrm>
            <a:off x="208080" y="755640"/>
            <a:ext cx="8485200" cy="1384200"/>
          </a:xfrm>
          <a:prstGeom prst="rect">
            <a:avLst/>
          </a:prstGeom>
          <a:ln w="0">
            <a:noFill/>
          </a:ln>
        </p:spPr>
      </p:pic>
      <p:sp>
        <p:nvSpPr>
          <p:cNvPr id="249" name="2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3 Grafik" descr=""/>
          <p:cNvPicPr/>
          <p:nvPr/>
        </p:nvPicPr>
        <p:blipFill>
          <a:blip r:embed="rId2"/>
          <a:stretch/>
        </p:blipFill>
        <p:spPr>
          <a:xfrm>
            <a:off x="682560" y="2206800"/>
            <a:ext cx="7553520" cy="42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Export Margins of Euro Area Countr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esults for the euro area’s EM  and IM indicate tha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the euro-11’s intra-euro and intra-EU exports are much higher than those for other reg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 increase in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 of 1999 for all destination regions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relative increase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of EM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ver the whole period for extra-euro area exports is even large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IM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mained stable or increased only slightly during the sample period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re important for intra-euro and intra-EU region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Export Margins of Euro Area Countr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growth of euro area exports has mainly driven by 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oth EM and IM of final goods are greater than those of intermediate goo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wide variations in both EM and IM across euro area countries: Italy has the highest EM wheras Germany the highest I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 plays a more prominent role for large countr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1 Başlık" descr=""/>
          <p:cNvPicPr/>
          <p:nvPr/>
        </p:nvPicPr>
        <p:blipFill>
          <a:blip r:embed="rId1"/>
          <a:stretch/>
        </p:blipFill>
        <p:spPr>
          <a:xfrm>
            <a:off x="285840" y="743040"/>
            <a:ext cx="8486640" cy="1171440"/>
          </a:xfrm>
          <a:prstGeom prst="rect">
            <a:avLst/>
          </a:prstGeom>
          <a:ln w="0">
            <a:noFill/>
          </a:ln>
        </p:spPr>
      </p:pic>
      <p:sp>
        <p:nvSpPr>
          <p:cNvPr id="264" name="2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4 Grafik" descr=""/>
          <p:cNvPicPr/>
          <p:nvPr/>
        </p:nvPicPr>
        <p:blipFill>
          <a:blip r:embed="rId2"/>
          <a:stretch/>
        </p:blipFill>
        <p:spPr>
          <a:xfrm>
            <a:off x="755640" y="2206800"/>
            <a:ext cx="740088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1 Başlık" descr=""/>
          <p:cNvPicPr/>
          <p:nvPr/>
        </p:nvPicPr>
        <p:blipFill>
          <a:blip r:embed="rId1"/>
          <a:stretch/>
        </p:blipFill>
        <p:spPr>
          <a:xfrm>
            <a:off x="285840" y="682560"/>
            <a:ext cx="8486640" cy="1384200"/>
          </a:xfrm>
          <a:prstGeom prst="rect">
            <a:avLst/>
          </a:prstGeom>
          <a:ln w="0">
            <a:noFill/>
          </a:ln>
        </p:spPr>
      </p:pic>
      <p:sp>
        <p:nvSpPr>
          <p:cNvPr id="267" name="2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5 Grafik" descr=""/>
          <p:cNvPicPr/>
          <p:nvPr/>
        </p:nvPicPr>
        <p:blipFill>
          <a:blip r:embed="rId2"/>
          <a:stretch/>
        </p:blipFill>
        <p:spPr>
          <a:xfrm>
            <a:off x="907920" y="2206800"/>
            <a:ext cx="7096320" cy="42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1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838080" y="1143000"/>
          <a:ext cx="7696440" cy="5079960"/>
        </p:xfrm>
        <a:graphic>
          <a:graphicData uri="http://schemas.openxmlformats.org/drawingml/2006/table">
            <a:tbl>
              <a:tblPr/>
              <a:tblGrid>
                <a:gridCol w="1100160"/>
                <a:gridCol w="1098720"/>
                <a:gridCol w="1100160"/>
                <a:gridCol w="1098360"/>
                <a:gridCol w="1100160"/>
                <a:gridCol w="1098720"/>
                <a:gridCol w="1100160"/>
              </a:tblGrid>
              <a:tr h="64260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able 1.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xport margins of euro area countries </a:t>
                      </a: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,total trade,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996-1998 and 2005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6-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st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65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67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lg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78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8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5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5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6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7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0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3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9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79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e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0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5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xembou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ther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74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2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76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u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7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384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2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7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3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7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Empirical Model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 estimate the trade effects of the euro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for EU-15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us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following gravity-type panel data mode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side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ternative dependent variables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: exports, OV, EM and I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Include time fixed effects, exporter fixed effects, and importer fixed effects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9"/>
              <p:cNvSpPr txBox="1"/>
              <p:nvPr/>
            </p:nvSpPr>
            <p:spPr>
              <a:xfrm>
                <a:off x="914400" y="2971800"/>
                <a:ext cx="7696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η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€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D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D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β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Data Sour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0880" y="178272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nnual 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a on exports of the EU-15 member states to 197 importing countries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HS-6 (5111 item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for the period 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96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7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12,082,404 annual bilateral observations, (5111 productsX197 importersX12 year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rade data from the UN’s COMTRADE</a:t>
            </a: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atabas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a on GDP from WD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a on bilateral distance, contiguity, common languages and colonial relationships from the CEPII datab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Outl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surement of Export Marg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ort Margins of Euro Area Countr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ort Margins and the Euro: Gravity Mod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Sour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mpirical 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ort Margins and Elasticity of Substitu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alibri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Empirical Resul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8288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esults for total trade suggest tha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 effect of the euro on the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xport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OV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significant,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aroun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 effect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of the euro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 and I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e significant at 1 and 10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spectively;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larger share (64 percent) of the total effect appears to have materialized through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esults for final and intermediate goods trade suggest tha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ffect on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OV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ounts to 18 percent for final goods and 8 percent for intermediate goods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istent with Flam and Nordström (2006b)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Empirical Resul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8288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he effect on EM for final and intermediate goods is insignificant, much smaller role of 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onclude that aggregation appears to mask important issues and need to a more disaggregated analysis of the euro effect on EM and IM of trad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1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523880" y="1397160"/>
          <a:ext cx="6096240" cy="45399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642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able 2.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stimates of the </a:t>
                      </a:r>
                      <a:r>
                        <a:rPr b="0" lang="tr-T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rade effects of the euro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, EU-15, 199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o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36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22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3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78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2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 go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7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8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36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ediate go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dec" pos="49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4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89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2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8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49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02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46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timates based on unbalanced panel of bilateral exports from EU-15 countries to 179 trading partners over the period 1996-2007. All models include importer-, exporter-, and year-fixed effects. Robust standard errors in parenthesis.  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**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dicate significance at 10, 5, and 1 perc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1"/>
              <p:cNvSpPr txBox="1"/>
              <p:nvPr/>
            </p:nvSpPr>
            <p:spPr>
              <a:xfrm>
                <a:off x="1676520" y="2819520"/>
                <a:ext cx="68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€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3"/>
              <p:cNvSpPr txBox="1"/>
              <p:nvPr/>
            </p:nvSpPr>
            <p:spPr>
              <a:xfrm>
                <a:off x="1676520" y="3657600"/>
                <a:ext cx="68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€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4"/>
              <p:cNvSpPr txBox="1"/>
              <p:nvPr/>
            </p:nvSpPr>
            <p:spPr>
              <a:xfrm>
                <a:off x="1676520" y="4495680"/>
                <a:ext cx="68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€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Empirical Resul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esults for 93 HS-2 chapters suggest tha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 effect of the euro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on EM: 57 out of 93 coefficients are negative, in contrast with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am and Nordström, 2006b; Berthou and Fontagne, 2008; but in line with Di Nino (2009) and Fontagne et al. (2009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he effect of the euro on IM: only 20 out of 93 coefficients are negati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huge variation in the estimated effects on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M and I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striking and deserves discuss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1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762120" y="990720"/>
          <a:ext cx="7543800" cy="525600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  <a:gridCol w="1886040"/>
                <a:gridCol w="1886040"/>
              </a:tblGrid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able 3.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stimation results</a:t>
                      </a: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or</a:t>
                      </a: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HS-2 chapters, EU-15, 199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eighted 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18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0.02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.019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0.01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3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0.02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25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0.0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.022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*</a:t>
                      </a:r>
                      <a:r>
                        <a:rPr b="0" lang="tr-TR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0.0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56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**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0.0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23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0.0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.022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*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0.0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5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**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0.0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dec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17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0.0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.03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**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0.0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56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**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0.0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254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ber of coefficients (of 93 HS-2 chapt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Export Margins and Elasticity of Substitu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2057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ney (2008) derives the following hypotheses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reduction in fixed trade costs increases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the effect is smaller, the larger the elasticity of substitu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reduction in variable trade costs increases both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 and IM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trade, and the effect on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I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is smaller (larger), the larger the elasticity of substitu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o test these hypothesis, the following model is use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7"/>
              <p:cNvSpPr txBox="1"/>
              <p:nvPr/>
            </p:nvSpPr>
            <p:spPr>
              <a:xfrm>
                <a:off x="2590920" y="5334120"/>
                <a:ext cx="3962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6" name="Rectangle 9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Export Margins and Elasticity of Substitu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clude observations, wher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oefficients of EM and I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re positive (and significant)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ue to the conditions of the mode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ect that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elasticity of substitution have a positive effect on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M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negative effect on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M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V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esults of the effects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f the elasticity of substitutio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V, EM and IM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in line with the predictions of Chaney (2008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onclude that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effect of a reduction in trade costs depends on the elasticity of substitu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1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85800" y="1066680"/>
          <a:ext cx="7543800" cy="5408640"/>
        </p:xfrm>
        <a:graphic>
          <a:graphicData uri="http://schemas.openxmlformats.org/drawingml/2006/table">
            <a:tbl>
              <a:tblPr/>
              <a:tblGrid>
                <a:gridCol w="1355760"/>
                <a:gridCol w="1353960"/>
                <a:gridCol w="1355760"/>
                <a:gridCol w="1354320"/>
                <a:gridCol w="1355760"/>
                <a:gridCol w="768240"/>
              </a:tblGrid>
              <a:tr h="6426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able 4.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stimation results for </a:t>
                      </a: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the test of Chaney (2008)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or alternative 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38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 (unweight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94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1.3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1.3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1.4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1.4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542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 (unweight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36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50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49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3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49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5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38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 (unweight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15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17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36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16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4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1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69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1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35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dec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1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lt;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lt;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lt;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lt;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Object 1"/>
              <p:cNvSpPr txBox="1"/>
              <p:nvPr/>
            </p:nvSpPr>
            <p:spPr>
              <a:xfrm>
                <a:off x="838080" y="2514600"/>
                <a:ext cx="53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"/>
              <p:cNvSpPr txBox="1"/>
              <p:nvPr/>
            </p:nvSpPr>
            <p:spPr>
              <a:xfrm>
                <a:off x="838080" y="5105520"/>
                <a:ext cx="533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"/>
              <p:cNvSpPr txBox="1"/>
              <p:nvPr/>
            </p:nvSpPr>
            <p:spPr>
              <a:xfrm>
                <a:off x="838080" y="3733920"/>
                <a:ext cx="533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5"/>
              <p:cNvSpPr txBox="1"/>
              <p:nvPr/>
            </p:nvSpPr>
            <p:spPr>
              <a:xfrm>
                <a:off x="2286000" y="5943600"/>
                <a:ext cx="68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0520" y="16761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vity estimates for total, intermediate and final goods trade suggest that the euro has lead to an increase in exports by some 7 to 13 perc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disaggregated estimates for 93 HS-2 chapters point to a smaller effect of around 5 perc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arge elasticity of substitution dampens (amplifies) the effect of a trade cost reduction on the extensive (intensive) margi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Thank you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1520" indent="-267120" algn="just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mpirical studies on the impact of currency unions on trade have mushroomed since the seminal paper by Rose (2000)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81520" indent="-267120" algn="just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81520" indent="-267120" algn="just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recently, induced by the introduction of the euro in 1999, the empirical literature on currency unions has shifted its focus towards the euro area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81520" indent="-2671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81520" indent="-267120" algn="just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dence suggests that the euro has led to an increase in trade of the euro area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ountries, such a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n and Klaassen (2002)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lam and Nordström (2006a)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81520" indent="-267120" algn="just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ew trade  theory (Melitz, 2003) suggests two main channels through which the euro might have affected tra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reduction in variable trade costs, causing an increase in both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IM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2)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reduction in fixed trade costs (and thus market entry costs), causing an increase in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nly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a related work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ney (2008) shows that the effects of a reduction in trade costs on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M and IM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 bilateral trade depends on the elasticity of substitut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present paper reconsiders the trade effects of the euro and makes the following contributions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ng disaggregated data, decompose the EU-15 countries’ exports to 197 importing countries into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 and I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following Hummels and Klenow (2005)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imat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effects of the euro on the euro area countries’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 and IM for total goo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nal goods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mediate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goo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est the predictions of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ney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2008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80" y="17524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veral empirical studies have investigated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mpact of the euro on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 and IM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 algn="just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onstantia"/>
              </a:rPr>
              <a:t>using bilateral trade data at the product-level such as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aldwin and Di Nino (2006), Flam and Nordström (2006b)</a:t>
            </a:r>
            <a:r>
              <a:rPr b="0" lang="tr-TR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 algn="just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onstantia"/>
              </a:rPr>
              <a:t>using firm-level data such as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rthou and Fontagne (2008), de  Nardis et al. (2008)</a:t>
            </a:r>
            <a:r>
              <a:rPr b="0" lang="tr-TR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re is substantial variation in the results both with respect to the magnitude of the effect and the relative role of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M and I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Measurement of Export Margi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ased on the methodology of Hummels and Klenow (2005), decompose the euro area exports into EM and I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M is defined as a weighted count of the categories in which a country exports relative to the categories exported by the rest of the worl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M is defined as a country’s exports to world’s exports in a set of categories in which the country also expor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M can be thought of as measure of export variety while IM as a measure of the trade volume of each variet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4617b"/>
                </a:solidFill>
                <a:latin typeface="Calibri"/>
              </a:rPr>
              <a:t>Measurement of Export Margi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Using X to denote the quantity of exports and P to denote their unit price, EM of exports from country i to country j in period t is defined 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here L is the set of observable categories in which country i has positive exports to country j in period 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7"/>
              <p:cNvSpPr txBox="1"/>
              <p:nvPr/>
            </p:nvSpPr>
            <p:spPr>
              <a:xfrm>
                <a:off x="2514600" y="3048120"/>
                <a:ext cx="342900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ℓ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j</m:t>
                                </m:r>
                                <m:r>
                                  <m:t xml:space="preserve">ℓ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j</m:t>
                                </m:r>
                                <m:r>
                                  <m:t xml:space="preserve">ℓ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ℓ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j</m:t>
                                </m:r>
                                <m:r>
                                  <m:t xml:space="preserve">ℓ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j</m:t>
                                </m:r>
                                <m:r>
                                  <m:t xml:space="preserve">ℓ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4617b"/>
                </a:solidFill>
                <a:latin typeface="Calibri"/>
              </a:rPr>
              <a:t>Measurement of Export Margin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M is defined 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M will be large if country i export many different categories  to country j while IM will be large if country i exports large amounts of a few categories l to  country j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Badinger&amp;Türkcan “Trade  Effects of the Eu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2590920" y="2514600"/>
                <a:ext cx="373356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ℓ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  <m:r>
                                  <m:t xml:space="preserve">ℓ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  <m:r>
                                  <m:t xml:space="preserve">ℓ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ℓ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j</m:t>
                                </m:r>
                                <m:r>
                                  <m:t xml:space="preserve">ℓ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j</m:t>
                                </m:r>
                                <m:r>
                                  <m:t xml:space="preserve">ℓ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0:50:04Z</dcterms:created>
  <dc:creator>MERIC KESKINEL</dc:creator>
  <dc:description/>
  <dc:language>en-US</dc:language>
  <cp:lastModifiedBy>Your User Name</cp:lastModifiedBy>
  <dcterms:modified xsi:type="dcterms:W3CDTF">2012-04-11T21:08:41Z</dcterms:modified>
  <cp:revision>126</cp:revision>
  <dc:subject/>
  <dc:title>The Impact of Exchange Rate Volatility on Fragmentation: Evidence from US Auto Parts Industry</dc:title>
</cp:coreProperties>
</file>