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3E5-BD6A-4C1E-8DFC-059DD2385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latter two columns, countries with insignificant long run elasticity are exclu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9983-0370-477E-9253-FE9EC5511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6C00-95D4-4C76-93EE-748855457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941-FB78-4E77-9982-3F433ADA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127-A50E-4A18-BDD1-6E812C70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84E-278B-49C6-9400-CACE2D07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B99-0B92-4E51-B169-12A42974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6CE-05F5-4009-8E7B-0B0EE792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1F1-7329-4034-B39A-B3288C4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D05-2D32-4FA0-9CD0-A4231852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11C-4859-46DF-8BE6-FE8D1C6F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8BA-DB70-40EA-9563-AA643C86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2AD-B3EA-4962-A1B4-1053D101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04D-2265-4C95-A387-B22DDA5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134-2402-4D8A-AABA-8A85F966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DD1C-ABC6-4347-BB8B-1C308111C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urther examination of the export-led growth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797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hristian Dreger, DIW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Dierk Herzer, University of Ham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tegr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3186000"/>
          <a:ext cx="8209080" cy="3265560"/>
        </p:xfrm>
        <a:graphic>
          <a:graphicData uri="http://schemas.openxmlformats.org/drawingml/2006/table">
            <a:tbl>
              <a:tblPr/>
              <a:tblGrid>
                <a:gridCol w="1800360"/>
                <a:gridCol w="2952720"/>
                <a:gridCol w="3456000"/>
              </a:tblGrid>
              <a:tr h="8247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droni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el test 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mean test 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4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410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607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.961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F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86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354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39640" y="1557360"/>
          <a:ext cx="6193080" cy="1295280"/>
        </p:xfrm>
        <a:graphic>
          <a:graphicData uri="http://schemas.openxmlformats.org/drawingml/2006/table">
            <a:tbl>
              <a:tblPr/>
              <a:tblGrid>
                <a:gridCol w="2374920"/>
                <a:gridCol w="1135080"/>
                <a:gridCol w="1341360"/>
                <a:gridCol w="1341720"/>
              </a:tblGrid>
              <a:tr h="6476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k null hypo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≤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≤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≤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hansen trace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85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tegration v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1484280"/>
          <a:ext cx="8064360" cy="4969080"/>
        </p:xfrm>
        <a:graphic>
          <a:graphicData uri="http://schemas.openxmlformats.org/drawingml/2006/table">
            <a:tbl>
              <a:tblPr/>
              <a:tblGrid>
                <a:gridCol w="2520720"/>
                <a:gridCol w="1943280"/>
                <a:gridCol w="2089080"/>
                <a:gridCol w="1511280"/>
              </a:tblGrid>
              <a:tr h="9939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s &amp; la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-mean DO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9** (35.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52** (-11.6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939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-mean DO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9** (29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02** (-9.7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36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o and Chiang (200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4** (19.9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67** (-9.8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39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aran (200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4** (33.4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9** (-16.5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lusion of country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341360"/>
          <a:ext cx="8207280" cy="5112000"/>
        </p:xfrm>
        <a:graphic>
          <a:graphicData uri="http://schemas.openxmlformats.org/drawingml/2006/table">
            <a:tbl>
              <a:tblPr/>
              <a:tblGrid>
                <a:gridCol w="2160720"/>
                <a:gridCol w="2014200"/>
                <a:gridCol w="2338560"/>
                <a:gridCol w="1693800"/>
              </a:tblGrid>
              <a:tr h="73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lu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0** (31.8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6** (-11.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 Sahar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** (36.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3** (-8.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mer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5** (29.9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85** (-12.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Amer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** (33.4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** (-11.8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t 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2** (29.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5** (-9.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s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** (33.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61** (11.2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g run export elast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ctor error corr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1341360"/>
          <a:ext cx="8209080" cy="5118120"/>
        </p:xfrm>
        <a:graphic>
          <a:graphicData uri="http://schemas.openxmlformats.org/drawingml/2006/table">
            <a:tbl>
              <a:tblPr/>
              <a:tblGrid>
                <a:gridCol w="1728720"/>
                <a:gridCol w="2374920"/>
                <a:gridCol w="2089440"/>
                <a:gridCol w="2016000"/>
              </a:tblGrid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 export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(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** (-16.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8 (-1.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5 (1.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NE GDP)(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7** (4.9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2** (3.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0* (2.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NE GDP)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99** (-4.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CAP)(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* (-2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** (2.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CAP)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04** (-3.9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0** (3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EXP(/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8** (3.6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** (4.7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8* (-2.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(EXP)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8** (-3.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instit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413000"/>
          <a:ext cx="8351640" cy="5175000"/>
        </p:xfrm>
        <a:graphic>
          <a:graphicData uri="http://schemas.openxmlformats.org/drawingml/2006/table">
            <a:tbl>
              <a:tblPr/>
              <a:tblGrid>
                <a:gridCol w="1993680"/>
                <a:gridCol w="1462320"/>
                <a:gridCol w="1726920"/>
                <a:gridCol w="1729080"/>
                <a:gridCol w="1439640"/>
              </a:tblGrid>
              <a:tr h="7743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5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5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90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market reg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1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7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cy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57000"/>
            <a:ext cx="814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f exports to non export output negative in the long, positive in the short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rt led growth hypothesis only valid for short time intervals for developing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 effects dominate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makers should deregulate product and labour markets and support industrial s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s dependence on primary ex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export driven growth in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 in human capital can be less relevant to trigger higher economic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 for atten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dreger@diw.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ort-led growth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s contribute more to GDP growth than a pure change in expor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rts finance imports that incorporate foreign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gains by higher investment in sectors with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es of scale due to larger mar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ve externalities to non-export sectors, such as technology spillovers, management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ort-led growth hypothesis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effects in the emerging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imary commodity exports shift resources away from manufacturing se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imary export sector does not create spillovers  to other parts of the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exports subject to huge price distortions, macroeconomic ins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killed workers in non-export sectors could limit knowledge spillo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ssive labour and product market regulation practices can generate market imperf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ious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ality tests for differenced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omitted variable bias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values not valid for integrated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integration tests for individual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power because of small sample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el cointegration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oups of similar countries, but cross section correlation ign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s component of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ultaneity bias, positive correlation in any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on of the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nel cointegration techniques, cross section corre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t roots and cointegration tested for common and idiosyncratic compon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lysis for huge set of developing coun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idence at aggregate and individual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tionship between exports and non-export GD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parate impact of exports on output from national accounts ident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inguish between short and long run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short-run effect pf exports on non-export GDP and vice 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-run bidirectional caus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long-run effect of exports is negative, but huge cross country dif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ly related to primary export dependence and product and labour market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ssociation to the capacity of a country to absorb new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th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ion function approac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ld development indic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l non export GDP, exports, gross fixed capital formation for capital sto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5 developing countries, 1971-200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 North Africa, 19 Sub Saharan, 9 South America, 6 Central America and Carribean, 4 South A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omposition of variables into common and idiosyncratic compon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oled mean group estimator, keeps individual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roo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4220640"/>
            <a:ext cx="8362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 roots relevant for common components, but the idiosyncratic components are sta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integration might be an issue for common, not for the idiosyncratic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ecked via Johansen (1995) and Perdoni (1999, 2004) t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268280"/>
          <a:ext cx="8064720" cy="2925720"/>
        </p:xfrm>
        <a:graphic>
          <a:graphicData uri="http://schemas.openxmlformats.org/drawingml/2006/table">
            <a:tbl>
              <a:tblPr/>
              <a:tblGrid>
                <a:gridCol w="2303640"/>
                <a:gridCol w="2736720"/>
                <a:gridCol w="3024360"/>
              </a:tblGrid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export G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33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3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03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942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el co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splitted into common and idiosyncratic 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 analysis for stationary series, Bai and Ng (2002) informat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i and Ng (2004), Gengenbach, Palm and Urbain (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root and cointegration analysis carried out separately for each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component: time series approach (ADF, Johans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iosyncratic component: first generation unit root tests, Pedroni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1:54:27Z</dcterms:created>
  <dc:creator>Christian</dc:creator>
  <dc:description/>
  <dc:language>en-US</dc:language>
  <cp:lastModifiedBy>Christian</cp:lastModifiedBy>
  <dcterms:modified xsi:type="dcterms:W3CDTF">2012-01-11T13:58:12Z</dcterms:modified>
  <cp:revision>5</cp:revision>
  <dc:subject/>
  <dc:title>A further examination of the export-led growth hypothesis</dc:title>
</cp:coreProperties>
</file>