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915-B012-4946-9B2A-52CAA0A1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" y="389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735-B162-45F5-A179-850ABBD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691-4141-43E8-B4EE-7AA283AD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612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532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56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612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532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7DA-5310-4E3A-9C99-D36EEA91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C09B-444F-408A-939A-79580EA1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9937-F4D9-44F9-8AF8-F5A6B1FD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F6BC-E518-4DA7-9213-B966AFCE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99E9-9999-4CD9-8E22-71037C5B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2912-276A-45DB-8EF7-AE06B97F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6560" y="22860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AA54-D24E-4CCC-B250-E69C7DE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4FF5-83E9-480E-B31A-C2D64BA2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99B-0ACF-4640-A9E6-BF73416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A855-29B0-479D-9610-D146D6A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0A67-9EF6-4811-8B0D-5D26779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60" y="389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82D9-28A3-4ADF-BD97-D1CFD1FD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6399-FB53-40AD-AD0C-869CE5F5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612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532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6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612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532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E590-B765-4A90-8BD2-CEE6196F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EA0-CAC7-43B7-9551-50F7F9B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377-8FDD-4523-B405-D7E64D8A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738-D2AB-4E77-99FF-9A19AF8B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6560" y="22860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326-E32E-43CE-A341-3C357DE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BBC-0C87-4AFA-9336-A34A00D2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7B8-ABA6-40A0-A3EA-90B39BCF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97C-606C-411B-B782-A631E7D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10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e2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371600" y="6297120"/>
            <a:ext cx="144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621-405D-43C3-A613-6CE92C4A5E04}" type="datetime">
              <a:rPr b="0" lang="de-DE" sz="1200" spc="-1" strike="noStrike">
                <a:solidFill>
                  <a:srgbClr val="808080"/>
                </a:solidFill>
                <a:latin typeface="Times New Roman"/>
                <a:ea typeface="Osak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97120"/>
            <a:ext cx="2895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66200" y="6297120"/>
            <a:ext cx="83844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Times New Roman"/>
                <a:ea typeface="Osaka"/>
              </a:rPr>
              <a:t>Page </a:t>
            </a:r>
            <a:fld id="{3B5EA25D-3860-4077-A157-6573C4ACFF0F}" type="slidenum">
              <a:rPr b="0" lang="de-DE" sz="1200" spc="-1" strike="noStrike">
                <a:solidFill>
                  <a:srgbClr val="80808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086600" y="5943600"/>
          <a:ext cx="1747800" cy="75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5943600"/>
                    <a:ext cx="1747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4038480" y="1447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4475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B7EB-0131-4D23-AD76-57BBAE3585F4}" type="datetime">
              <a:rPr b="0" lang="de-DE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0912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AE9-586F-4CEF-95AD-0FBA2ECFF4E6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5880" y="5373720"/>
          <a:ext cx="272124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373720"/>
                    <a:ext cx="27212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50e2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tistik.a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874880"/>
            <a:ext cx="712152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50e20"/>
                </a:solidFill>
                <a:latin typeface="Arial"/>
              </a:rPr>
              <a:t>Ways to Access Firm-Level Data and the Issue of Confidentiality</a:t>
            </a:r>
            <a:endParaRPr b="1" lang="en-US" sz="36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01720" y="3141360"/>
            <a:ext cx="5346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. FIW-Worksh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October 30, 200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49440" y="1125360"/>
            <a:ext cx="5499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f75"/>
                </a:solidFill>
                <a:latin typeface="Arial"/>
                <a:ea typeface="Times New Roman"/>
              </a:rPr>
              <a:t>Peter Hac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f75"/>
                </a:solidFill>
                <a:latin typeface="Arial"/>
                <a:ea typeface="Times New Roman"/>
              </a:rPr>
              <a:t>Statistics Aust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941440"/>
            <a:ext cx="1676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50e20"/>
                </a:solidFill>
                <a:latin typeface="Arial"/>
                <a:ea typeface="Osaka"/>
              </a:rPr>
              <a:t>www.statistik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9528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Service for Researchers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easibility study for BM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s the implementation of standardized research-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safe cent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map for next three yea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by the Ministry of Sci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ning the range of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opportunities for access to firm-lev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losure-contro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web-based access to micro-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932-D7B8-476B-9155-C34323A470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43000"/>
            <a:ext cx="9144000" cy="4008600"/>
          </a:xfrm>
          <a:prstGeom prst="rect">
            <a:avLst/>
          </a:prstGeom>
          <a:solidFill>
            <a:srgbClr val="1073a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447920"/>
            <a:ext cx="630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Bef>
                <a:spcPts val="1500"/>
              </a:spcBef>
              <a:buClr>
                <a:srgbClr val="a0d4c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0d4cd"/>
                </a:solidFill>
                <a:latin typeface="Arial"/>
                <a:ea typeface="Osaka"/>
              </a:rPr>
              <a:t>The Service of </a:t>
            </a:r>
            <a:r>
              <a:rPr b="0" lang="en-US" sz="2400" spc="-1" strike="noStrike">
                <a:solidFill>
                  <a:srgbClr val="a0d4cd"/>
                </a:solidFill>
                <a:latin typeface="Arial"/>
                <a:ea typeface="Osaka"/>
              </a:rPr>
              <a:t>Statistics Austria for Researchers</a:t>
            </a:r>
            <a:r>
              <a:rPr b="0" lang="en-US" sz="2400" spc="-1" strike="noStrike">
                <a:solidFill>
                  <a:srgbClr val="a0d4cd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edbb05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bb05"/>
                </a:solidFill>
                <a:latin typeface="Arial"/>
              </a:rPr>
              <a:t>The Leg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The Federal Statistics</a:t>
            </a:r>
            <a:r>
              <a:rPr b="1" lang="en-US" sz="2400" spc="-1" strike="noStrike">
                <a:solidFill>
                  <a:srgbClr val="b50e2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ct 2000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ticles of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31 Use of statistical data for scientific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15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nonymi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rsona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26 Other regis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5 Legitimacy of personal survey or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4D0-96CC-496A-BAC7-D42726E200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nonymisation and Research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15 (1), Federal Statistics Act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collating personal data, all personal references shall be deleted immediately once they are no longer required for the reasons mentioned in Art. 5 (2) here above or for any other statistical survey ordered by reg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s to personal, household and compan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31 (Use of statistical data for scientific purpo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may be provided to suitably qualified persons and scientific 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scientific purpo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llowing approval of the use to which it will be pu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yment of an appropriate fee to cover co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ed in Art. 31 (3), Federal Statistics Act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use of personal statistical data for scientific purposes is prohib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2F3-4FA4-4CD9-80FA-C9CA22F2D7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Statistical Confidentiality</a:t>
            </a:r>
            <a:r>
              <a:rPr b="1" lang="en-US" sz="2400" spc="-1" strike="noStrike">
                <a:solidFill>
                  <a:srgbClr val="b50e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Guiding princ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Official Stat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Principles of Official Statistics, UN (1994), 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Statistics Code of Practice, Eurostat (2005), 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Statistics Act, Art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vidual data collected by statistical agencies for statistical compilation, whether they refer to natural or legal persons, are to be strictly confidential and used exclusively for statistical purposes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N Fundamental Princip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official statistics depend on public co-operation and goodwill to provide accurate and timely information requested in surveys, need confidenti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 guarantees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trust of respond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Statistics Act, Art. 17 (4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confidentiality of statistics is an official secret within the meaning of article 3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G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04F-EA65-409D-8BC7-92E89C3553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nonymisation and</a:t>
            </a:r>
            <a:r>
              <a:rPr b="1" lang="en-US" sz="2400" spc="-1" strike="noStrike">
                <a:solidFill>
                  <a:srgbClr val="b50e2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Identification Risk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-data of persons and househol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sation un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ly no identification risk, especially for sampl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-leve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sation possible for branches with homogeneous structure (size of staff, size of turnover, etc.) such as construction,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onsult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risk similar to micro-data of persons and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information might be cru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sation difficult for branches with dominating lead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2BD-6001-4610-BBE7-9D6CB171AC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742788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Merging Data from Different Surveys/Sources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nteresting empirical analyses are based on merged data-s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Merging on basis of personal identifiers generally is only permitted if foreseen in a legal 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15 and Art. 5 (2) Federal Statistics Act may enable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: For a specific scientific research project, the lack of a legal basis for merging might prevent the merging of relevant data-s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An amendment of the Federal Statistics Act should al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pseudonyms for statistical units (which are not revertible for Statistics Aust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rging of these pseudonymised pers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B8F-500C-47B1-8D71-C5D8B1F64D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7139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The Practice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 always intended to co-operate with scientific research under this restrictive setting whenever possi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expert opinion urges Statistics Austria to interpret Art. 15 and Art. 5 (2) Federal Statistics Act rather restrictive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ndment of Art. 15 and Art. 26 Federal Statistics Ac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low using and merging pseudonymised person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nyms: bPK-AS for persons, Unternehmenskennzahl for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 co-initiated the change of Art. 15 and Art. 26 Federal Statistics 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191-EBFB-4479-B2FA-575B839FF7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7139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The Future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560" y="1219320"/>
            <a:ext cx="79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f amendment enacted, research </a:t>
            </a:r>
            <a:r>
              <a:rPr b="0" lang="en-US" sz="2400" spc="-1" strike="noStrike">
                <a:solidFill>
                  <a:srgbClr val="009999"/>
                </a:solidFill>
                <a:latin typeface="Arial Unicode MS"/>
              </a:rPr>
              <a:t>servic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mplemented</a:t>
            </a:r>
            <a:r>
              <a:rPr b="0" lang="de-AT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 will offer much more attractive anonymised (firm-level) datas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 will of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sation needs for firm-lev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resources, in particular time of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s that cover costs of Statistics Aust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ning the range of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access to firm-level data, advanced disclosure-contro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internet-based access to micro-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825-87A6-4C1E-9A2F-7B1BC392DB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143000"/>
            <a:ext cx="9144000" cy="4008600"/>
          </a:xfrm>
          <a:prstGeom prst="rect">
            <a:avLst/>
          </a:prstGeom>
          <a:solidFill>
            <a:srgbClr val="1073a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447920"/>
            <a:ext cx="630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Osaka"/>
              </a:rPr>
              <a:t>The Service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Osaka"/>
              </a:rPr>
              <a:t>Statistics Austria for Researcher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g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189000"/>
            <a:ext cx="67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Why Co-operation of Official Statistics with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1360" y="13590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765440"/>
            <a:ext cx="73436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of Official Statistics are a </a:t>
            </a: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public goo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hould be used as efficient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peration allows for results which may be beyond the possibilities of the National Statistical Organizations (N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peration opens </a:t>
            </a: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research are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peration makes scientists familiar with Official Statistics and the 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peration creates trust in the NSO by the public, contributes to a better image of the 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C6E-F05C-4698-906F-FA90217898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ccess to Micro-Data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s research areas for sci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policy analy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ssessing the effectiveness of governmental program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Official Statistics with feed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s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quality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tatistical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BD7-D906-4321-8C2B-87557522DE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5628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The Website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“Mikrodaten für Forschung und Lehre”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onymised micro-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d data sets (SDS)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-data files tailored to the needs of the researcher (AD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S: Samples from surveys li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Microcensus, LF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2000 –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 survey 2004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EU-SIL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003 –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io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Wage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2005 – 2007), Income tax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ible via internet (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atistik.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access for everybody after regi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stration: ID, affiliation, email address, intended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504-7967-4391-A324-FFF34CD1B3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Micro-data Portfolio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6560" y="1219320"/>
            <a:ext cx="6913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1073af"/>
                </a:solidFill>
                <a:latin typeface="Arial"/>
              </a:rPr>
              <a:t>Number (#) of offered 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78160" y="2276640"/>
          <a:ext cx="3814920" cy="212868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cademic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# of Statistical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# of S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006/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007/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008/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B3C-A717-471D-83D4-A6129E4A4E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Demand for Micro-data 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6560" y="4220640"/>
            <a:ext cx="74901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2006: 180 downloads; 63 in 2008/0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ing use in academic </a:t>
            </a: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teach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 courses in sociology, economics, statistical computing, a.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Publication platf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2 scientific papers, 2 students theses, 3 articles and 7 presentations related to co-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1073af"/>
                </a:solidFill>
                <a:latin typeface="Arial"/>
              </a:rPr>
              <a:t>In the academic year 2008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778200" y="1733400"/>
          <a:ext cx="3457800" cy="2200320"/>
        </p:xfrm>
        <a:graphic>
          <a:graphicData uri="http://schemas.openxmlformats.org/drawingml/2006/table">
            <a:tbl>
              <a:tblPr/>
              <a:tblGrid>
                <a:gridCol w="2666880"/>
                <a:gridCol w="79092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Use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cademic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Non-academic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Student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Teach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Unkn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E63-5690-4CDC-BE17-8C4659A26A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Research Co-operations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50e20"/>
                </a:solidFill>
                <a:latin typeface="Arial"/>
              </a:rPr>
              <a:t>NPO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: Department for Social Policy of the W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ion of the business register wrt NPOs based on tax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of NPOs: size, activities, govern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s Austria: improvement of the S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artment for Social Policy: various research projects wrt N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1A6-28D9-4977-BA61-07A8BE310D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Research Co-operations II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Micro-dy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Competitiveness of Firms, Regions and Industries in the Knowledge Based Econo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-Project, 2006 to 2010, 17 part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: wiiw (Wiener Institut für Internationale Wirtschaftsverglei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that combine data from micro- and macro-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: provision of data, remote comput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jects deal with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income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profitability of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terminants of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business suc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362-90B8-4AED-9FCB-E78CA97AD1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7:44:30Z</dcterms:created>
  <dc:creator>ARTE GRAFICA</dc:creator>
  <dc:description/>
  <dc:language>en-US</dc:language>
  <cp:lastModifiedBy>PHACKL$</cp:lastModifiedBy>
  <dcterms:modified xsi:type="dcterms:W3CDTF">2009-10-30T06:11:32Z</dcterms:modified>
  <cp:revision>153</cp:revision>
  <dc:subject/>
  <dc:title>PowerPoint-Präsentation</dc:title>
</cp:coreProperties>
</file>